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2.xml.rels" ContentType="application/vnd.openxmlformats-package.relationships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C6CD-D856-4E04-930E-C3C053E21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F08-A6BE-4221-B7A6-80804092B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22D-93DC-46A4-9A26-3FC727D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BE1-7B38-438B-BD3F-9D34D5B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A74-03F5-4A32-9DD0-344656C5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01C-93D2-42B7-95CC-10089287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9BFE7-DCD1-462E-98CA-85ECF290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0ACA6-F14C-4C57-80CD-AF84BFB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52CFB-3273-49B4-A9EE-7C880D1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5FA45-0870-41E7-B5E8-60EF08E6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03F1C-D329-474E-9F22-6F7E358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AD889-1F82-4D43-AB2A-C373E2CF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74FA0-26C9-49CD-AA0F-7163CCD0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1DD-641B-4E62-9C95-244F784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7B250-11E4-4498-B443-B45FE0E4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C1237-7960-4CE7-B69A-ECE73D7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46655-F3B6-4A0C-9635-74D6DBB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EEBFD-E28E-482F-9295-EB324705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AE8F-665E-47B3-A320-19FDBF2A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A66D-10C7-4F31-8AD0-610544A1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FB7D-7F1C-4FCC-A51F-52FF3F07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B3B2-A741-4E28-8FD8-99A2492C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ADCF-1642-41BC-9E05-A63893F6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F675-27AD-46B2-B5B4-D6F0365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474-50D0-462D-9456-38B8F72F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3F56-2450-40AA-9487-6572E6E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0719-494B-4D0A-8D69-7E688F5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EA76-6C5C-49FF-9CA9-24310A2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34EC-5CA8-4E77-8854-412703E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96DA-05B3-4007-BD3F-607DBB83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7B92-E239-4C5A-9410-0B3AD783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4837-3AD5-49E8-8BB8-C7062137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5F7F-F050-43E4-BD38-040A508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B732-73B1-40CF-A35B-96F9150E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3FA8-01FB-4A81-96E9-8381F792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E26-E6CD-46F7-914D-D9C2E34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0586-89FF-427E-AA9A-6B8CFC72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1338-62D8-48D5-8BE4-9BD116E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22B7-680B-413B-A68E-B98A09E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4920-F3AB-40F4-8FDB-9C9FFA3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69A7-F346-4204-8600-D9EE326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59F8-C335-40F9-BE2D-096847C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1A4A-C0F8-4318-8003-2AE78C00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11E6-0F89-4804-95ED-CE1BF4C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C9DA-33B0-4918-A535-C6766FC5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1AF-BFA3-4D4E-BEB6-F7B9A542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356-7FD4-4EA7-92A9-E1F09B5B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2D1-4B9B-4D81-B83D-10AFBF4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A16-3A67-4855-9DA0-243F271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4D2-5A47-4D2F-BEF9-046BC71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01A-2656-4E18-88F6-2D0FDE054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408-A36F-47D0-986D-04A5DE1A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5B2-A374-4C02-B1A9-61138B953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D6D-929B-4172-BA00-D7D8E85E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A3E2-C427-49CC-B928-3C5DF0601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355-D461-4CFD-895E-279EB42C6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D12-91BF-401F-8297-505F1469E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573-FA14-400B-96B1-4278FBA7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362b9"/>
                </a:solidFill>
                <a:latin typeface="Arial"/>
              </a:rPr>
              <a:t>Учебная дисципли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хитектура информационных систем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34900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кция 2 (6 часо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сновы архите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нформационных систе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C59-C8BC-4AE0-91AB-63F09F69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четвертом уровне детализируются элементы третьего уровня. Устройство управления (УУ) представлено в виде четырех составляющих: логики программной последовательности — электронных схем, обеспечивающих выполнение команд программы в последовательности, предписываемой программой; регистров и дешифраторов устройства управления; управляющей памяти; логики формирования управления, генерирующей все необходимые управляющие сигналы. Применительно к параллельным и распределенным многопроцессорным и мно­гомашинным вычислительным системам зачастую вводят понятие «метауровня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F86-A7D0-47FB-93C2-85E2D77F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основе архитектуры современных ВМ лежит представление алгоритма решения задачи в виде программы последовательных вычислений. Согласно стандарту ISO 2382/1-84, программа для ВМ — это «упорядоченная последовательность команд, подлежащая обработке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лгоритм — одно из фундаментальных понятий математики и вычислительной техники. Международная организация стандартов (ISO) формулирует понятие алгоритм как «конечный набор предписаний, определяющий решение задачи посредством конечного количества операций» (ISO 2382/1-84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274-BAF6-4D6E-94F8-28239557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сновными свойствами алгоритма являются: дискретность, определенность, массовость и результативность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искретность выражается в том, что алгоритм описывает действия над дискретной информацией (например, числовой или символьной), причем сами эти действия также дискретн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ойство определенности означает, что в алгоритме указано все, что должно быть сделано, причем ни одно из действий не должно трактоваться двояко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ассовость алгоритма подразумевает его применимость к множеству значений исходных данных, а не только к каким-то уникальным значениям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езультативность алгоритма состоит в возможности получения результата за конечное число шаг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EC93-E6F8-4A2C-8C34-B72BF6F6B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М, где определенным образом закодированные команды программы хранятся в памяти, известна под названием вычислительной машины с хранимой в памяти программой. Идея принадлежит создателям вычислителя ENIАС Эккерту, Мочли и фон Нейман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ность фон-неймановской концепции вычислительной машины можно свести к четырем принципам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воичного кодирова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граммного управления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днородности памяти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дрес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DA0D-EE6A-4E0D-9935-DBD6438D5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гласно принципу двоичного кодирования вся информация, как данные, так и команды, кодируются двоичными цифрами 0 и 1. Каждый тип информации представляется двоичной последовательностью и имеет свой формат. Последовательность битов в формате, имеющая определенный смысл, называется полем. В числовой информации обычно выделяют поле знака и поле значащих разрядов. В формате команды можно выделить два поля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ле кода операци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ле адресов (адресную часть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F22-A8DD-4049-9BE6-A56AEF93A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д операции представляет собой указание, какая операция должна быть выполнена, и задается с помощью двоичной комбинац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ид адресной части и число составляющих ее адресов зависят от типа команды: в командах преобразования данных АЧ содержит адреса объектов обработки (операндов) и результата; в командах изменения порядка вычислений — адрес следующей команды программы; в командах ввода/вывода — номер устройства ввода/ вывода. Адресная часть также представляется двоичной последовательностью. Таким образом, команда в вычислительной машине имеет вид (длина кода операции + длина поля адресов)-разрядной двоичной комбинац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A6E2-A867-480B-AC9A-124AD8BB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вычисления, предусмотренные алгоритмом решения задачи, должны быть пред­ставлены в виде программы, состоящей из последовательности управляющих слов — команд. Каждая команда предписывает некоторую операцию из набора операций, реализуемых вычислительной машиной. Команды программы хранятся в последовательных ячейках памяти вычислительной машины и выполняются в естественной последовательности, то есть в порядке их положения в програм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C7D-5FD8-4217-B6A9-3545A8F43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обходимости, с помощью специальных команд, эта последовательность может быть изменена. Решение об изменении порядка выполнения команд программы принимается либо на основании анализа результатов предшествующих вычислений, либо безусло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анды и данные хранятся в одной и той же памяти и внешне в памяти неразличимы. Распознать их можно только по способу использов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EB52-DBDB-4AB6-BCDC-BCF5783CE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зволяет производить над командами те же операции, что и над числами, и, соответственно, открывает ряд возможностей. Так, циклически изменяя адресную часть команды, можно обеспечить обращение к последовательным элементам массива данных. Более полезным является другое следствие принципа однородности, когда команды одной программы могут быть получены как результат исполнения другой 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67F-65C2-48D5-9AC7-F56091410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но основная память состоит из пронумерованных ячеек, причем процессору в произвольный момент доступна любая ячейка. Двоичные коды команд и данных разделяются на единицы информации, называемые словами, и хранятся в ячейках памяти, а для доступа к ним используются номера соответствующих ячеек — адр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A08-1F90-445B-A1EF-EB4BC656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ле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2828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Понятие информационной систем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Понятие вычислительной системы и ее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Информационные системы и их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555-8C50-4AC6-8B08-B6200E94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-неймановская архитект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нство современных ВМ по своей структуре отвечают принципу программного управления. Типичная фон-неймановская ВМ содержит: память, устройство управления, арифметико-логическое устройство и устройство ввода/выв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Сравнить определения информационной системы и вычислительной системы. Найти различ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Сравнить определения архитектуры информационной системы и  архитектуры вычислительной системы. Найти различ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357-BFCE-46A8-8793-4BF76EDBB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хитектура информационной систем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цепция, определяющая модель, структуру, выполняемые функции и взаимосвязь компонентов информационной систем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ненты информационной системы по выполняемым функциям можно разделить на три слоя: слой представления, слой бизнес-логики и слой доступа к дан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3322-D76C-4723-A7FB-C6D6DB0C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й представ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е, что связано с взаимодействием с пользователем: нажатие кнопок, движение мыши, отрисовка изображения, вывод результатов поиск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знес логи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ила, алгоритмы реакции приложения на действия пользователя или на внутренние события, правила обработки дан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й доступа к дан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хранение, выборка, модификация и удаление данных, связанных с решаемой приложением прикладной задач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7EB0-21E1-4A50-BBC5-B1009FA10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йл-серверная архитекту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вились локальные сети. Файлы начали передаваться по сети. Сначала были одноранговые сети - все компьютеры равноправны. Потом возникла идея хранения всех общедоступных файлов на выделенном компьютере в сети - файл-серве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F47C-EB6A-49D3-AA4C-A8D637AC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82680" y="4076640"/>
            <a:ext cx="6591240" cy="259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BED-8A0F-48AF-8858-0EA7A804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856720" cy="6077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йл-серверные приложения — приложения, схожие по своей структуре с локальными приложениями и использующие сетевой ресурс для хранения программы и данных. Функции сервера: хранения данных и кода программы. Функции клиента: обработка данных происходит исключительно на стороне клие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клиентов ограничено десят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ногопользовательский режим работы с данны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добство централизованного управления доступ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изкая стоимость разработ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DBA-A590-45DE-A693-B966EB1EE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изкая производи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изкая надеж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лабые возможности расши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архитектуры с файловым сервером:  данные хранятся в одном месте, а обрабатываются в другом. Это означает, что их нужно передавать по сети, что приводит к очень высоким нагрузкам на сеть и, вследствие этого, резкому снижению производительности приложения при увеличении числа одновременно работающих кли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54C-59E4-46E3-AA35-981C8266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ым важным недостатком такой архитектуры является децентрализованное решение проблем целостности и согласованности данных и одновременного доступа к данным. Такое решение снижает надежность прилож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ент-серверная архитекту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евым отличием архитектуры клиент-сервер от архитектуры файл-сервер является абстрагирование от внутреннего представления данных (физической схемы данных). Теперь клиентские программы манипулируют данными на уровне логической сх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815-A6A1-4528-9D07-FDFD5112A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архитектуры клиент-сервер позволило создавать надежные (в смысле целостности данных) многопользовательские ИС с централизованной базой данных, независимые от аппаратной (а часто и программной) части сервера БД и поддерживающие графический интерфейс пользователя (ГИП) на клиентских станциях, связанных локальной сетью. Причем издержки на разработку приложений существенно сокращал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90D-E2D0-43A7-91C9-0B9308BD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особен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ентская программа работает с данными через запросы к серверному П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ые функции приложения разделены между клиентом и серве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69A-CCFC-4587-A14B-6753A4B45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52520" y="3645000"/>
            <a:ext cx="6524640" cy="302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12536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й закон Российской Федерации от 27 июля 2006 г. № 149-ФЗ «Об информации, информационных техноло-гиях и о защите информации»: «Инфор-мационная система — совокупность содер-жащейся в базах данных информации и обеспечивающих ее обработку информа-ционных технологий и технических средств».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десь во главу угла ставится понятие базы дан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53C-037B-4F9E-9670-E832BA62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 поддержка многопользовательской рабо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антия целостности д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знес логика приложений осталась в клиентском ПО. При любом изменении алгоритмов, надо обновлять пользовательское ПО на каждом клиен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ие требования к пропускной способности коммуникационных каналов с сервером, что препятствует использование клиентских станций иначе как в локаль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D85-59B2-4CE6-B2A7-97715DB5C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бая защита данных от взлома, в особенности от недобросовестных пользователей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сложность администрирования и настройки рабочих мест пользователей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использовать мощные ПК на клиентских мест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сложность разработки системы из-за необходимости выполнять бизнес-логику и обеспечивать пользовательский интерфейс в одной програм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798-B0A2-4A11-B19F-ABA4BABE8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4B96-D781-472F-989C-CF85F5778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5877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нство недостатков классической или 2-х слойной архитектуры клиент-сервер проистекают от использования клиентской станции в качестве исполнителя бизнес-логики ИС. Поэтому очевидным шагом дальнейшей эволюции архитектур ИС явилась идея "тонкого клиента", то есть разбиения алгоритмов обработки данных на части связанные с выполнением бизнес-функций и связанные с отображением информации в удобном для человека представлении. При этом на клиентской машине оставляют лишь вторую часть, связанную с первичной проверкой и отображением информации, перенося всю реальную функциональность системы на серверную ча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61DA-F55D-420F-B190-D0811CA29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ходная к трехслойной архитектуре (2.5 сло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хранимых процедур и вычисление данных на стороне сервера сокращают трафик, увеличивают безопасность. Клиент все равно реализует часть бизнес-лог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ая организация системы весьма напоминает организацию первых унитарных систем с той лишь разницей, что на пользовательском месте стоит не терминал (с пресловутым зеленым экраном), а персональный компьютер, обеспечивающий ГИП, например, в последнее время в качестве клиентских программ часто применяют стандартные www-браузе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919-46E4-4557-B7A3-16F4E1E9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возврат к почти унитарным системам произошел уже на ином технологическом уровне. Обязательным стало использование СУБД со всеми их преимуществами. Программы для серверной части пишут, в основном, на специализированных языках, пользуясь механизмом хранимых процедур сервера БД. Таким образом, на уровне логической организации, ИС в архитектуре клиент-сервер с тонким клиентом расщепляется на три слоя - слой данных, слой бизнес-функций (хранимые процедуры) и слой представления. В такой схеме построения ИС не удается написать всю бизнес-логику приложения на не предназначенных для этого встроенных языках СУБ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B01-4E6C-4207-AE27-AE53ECC55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, очень часто часть бизнес-функций реализуется в клиентской части систем, которая от этого неотвратимо "толстеет". Отчасти поэтому, отчасти потому, что физически такие ИС состоят из двух компонентов, эту архитектуру часто называют 2.5-слойный клиент-серве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е от 2-х слойной архитектуры 2.5-слойная архитектура обычно не требует наличия высокоскоростных каналов связи между клиентской и серверной частями системы, так как по сети передаются уже готовые результаты вычислений - почти все вычисления производятся на серверной сторо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032-A2DB-4B4B-98C7-1B5C5E3E3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ается защита информации - пользователям даются права на доступ к функциям системы, а не на доступ к ее данным и т.д. Вместе с преимуществами унитарного подхода архитектура 2.5 перенимает его недостатки: ограниченную масштабируемость, зависимость от программной платформы, ограниченное использование сетевых вычислительных ресурсов. Программы для серверной части системы пишутся на встроенных в СУБД языках описания хранимых процедур. Это снижает быстродействие системы, повышает трудоемкость создания с модификации ИС и негативно сказывается на стоимости аппаратных средств, необходимых для ее функциониров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055-4C2F-4C09-AB2B-889352BA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ешения этих проблем и была предложена так называемая 3-х слойная архитектура клиент-сервер. Основным ее отличием от архитектуры 2.5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ение программ, отвечающих за хранение данных (СУБД) от программ эти данные обрабатывающих (сервер приложения (СП), application server (AS)). Такое разделение программных компонент позволяет оптимизировать нагрузки как на сетевое, так и на вычислительное оборудование комплек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309-37E1-40EB-B8F4-26AA6C52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хуровневая клиент-серверная архитектур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73D-6512-4A30-B10C-E840E9F2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719280" y="1724040"/>
            <a:ext cx="7705440" cy="436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66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79280" y="112392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дакционная коллегия журнала «Information Systems», определяет информационные системы как «аппаратно- программные системы, которые поддерживают приложения с интенсивной обработкой данных (Data- Intensive Applications)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узком смысле ИС определяют как подмножество компонентов, включающее базы данных и приложения, т. е. ИС в узком смысле определяют как программно- аппаратную систему, пред-назначенную для автоматизации целенаправленной деятельности конечных пользователей и обеспечивающую, в соответствии с заложенной в нее логикой обработки, возможность получения, модификации и хранения информ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D13E-DF11-432C-B728-E979D5AE9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хуровневая клиент-серверная архитектур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04A-61E2-44BD-B89D-F3218EA9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71680" y="1844640"/>
            <a:ext cx="8001000" cy="501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енты трѐхзвенной архитектуры, с точки зрения программного обеспечения реализуют определенные сервера БД, web-сервера и браузеры. Место любого из этих компонентов может занять программное обеспечение любого производителя. Ниже представлено описание взаимодействия компонентов трехуровневой архитектуры клиент-серверного приложения. Сервер БД представлен MySQL-сервером; сервер приложений технологиями: ADO.NET, ASP.NET и web-сервером IIS; роль клиента выполняет любой web-браузе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EA2-1423-4FA0-B974-6143F58B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аузер клиент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яющая сре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P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айдер данны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Q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айдер данны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яющая сре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P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7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-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узер клиен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— браузер клиента отправляет HTTP-запрос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— на стороне сервера служба Web Internet Information Server (web-сервер IIS) определяет тип запрашиваемого ресурса, и для случая запроса *.aspx (расширение файлов страниц ASP.NET) загружает соответствующее ему (запросу) расширение Internet Server Aplication Programming Interface (ISAP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A1E-FD87-4C03-89D2-E4828CF0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траниц aspx это расширение isapi_aspnet.dll. IIS также осуществляет идентификацию и авторизацию пользователя от которого поступил запрос. В свою очередь расширение isapi_aspnet.dll загружает фабрику обработчиков ASP.NET. Далее, фабрика обработчиков создает объектную модель запрашиваемой страницы и обрабатывает действия пользова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— в ходе генерации ответа приложению ASP.NET может потребоваться обращение к БД, в этом случае используя библиотеки классов провайдера данных ADO.NET 2.0, выполняющая среда обращается к серверу БД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2EB-227E-46DE-91EA-E21DAFE0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— провайдер данных ADO.NET 2.0 передает запрос на операцию с БД серверу MySQL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— сервер MySQL осуществляет обработку запроса, выполняя соответствующие операции с БД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— провайдер данных ADO.NET 2.0 передает результаты запроса объекту страницы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 — объект страницы с учетом полученных данных осуществляет рендеринг графического интерфейса страницы и направляет результаты в выходной поток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— сервер IIS отправляет содержимое сгенерированной страницы клиентскому браузер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42C8-ECD6-4788-B0BD-260C721E8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9280" y="691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  1. Тонкий клиент. 2. Между клиентской программой и сервером приложения передается лишь минимально необходимый поток данных - аргументы вызываемых функций и возвращаемые от них значения. Это теоретический предел эффективности использования линий связи, даже работа с ANSI-терминалами (не говоря уже об использование протокола http) требует большей нагрузки на се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ервер приложения ИС может быть запущен в одном или нескольких экземплярах на одном или нескольких компьютерах, что позволяет использовать вычислительные мощности организации столь эффективно и безопасно как этого пожелает администратор 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AF99-D419-4A36-8DF3-FC1B1E3C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Дешевый трафик между сервером приложений и СУБД. Трафик между сервером приложений и СУБД может быть большим, однако это всегда трафик локальной сети, а их пропускная способность достаточно велика и дешева. В крайнем случае, всегда можно запустить СП и СУБД на одной машине, что автоматически сведет сетевой трафик к нул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Снижение нагрузки на сервер данных по сравнению с 2.5-слойной схемой, а значит и повышение скорости работы системы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Дешевле наращивать функциональность и обновлять П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876E-23BD-4075-A264-A11E6CADC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Выше расходы на администрирование и обслуживание серверной ч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штабируемость систем выполненных в 3-х слойной архитектуре впечатляет. Одна и та же система может работать как на одном отдельно стоящем компьютере, выполняя на нем программы СУБД, СП и клиентской части, так и в сети, состоящей из сотен и тысяч машин. Как уже было отмечено, единственным фактором, препятствующим бесконечной масштабируемости, является лишь требование ведения единой базы дан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43B-C997-4EF2-95B7-7519C4CF4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79280" y="764640"/>
            <a:ext cx="878544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имо требования увеличения производительности системы с ростом масштабов деятельности важным фактором является и расширение ее функциональной наполненности. И здесь 3-х слойная схема выигрывает у своих предшественников. Для расширения функциональности не обязательно 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у как в случае 2.5-слойной схемы - достаточно установить новый сервер приложения с требуемой функцией. Отпадают и многие проблемы связанные с переустановкой клиентских частей программы на множестве компьютеров, быть может весьма удаленных, столь актуальные для 2-слойной схемы - парадигма "тонкого" клиента предоставляет для этого целый ряд возможнос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A19-AE6E-4BE7-B9FB-AC540B088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/Intranet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br>
              <a:rPr sz="2900"/>
            </a:br>
            <a:br>
              <a:rPr sz="29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79280" y="836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/Intranet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64B-986B-4100-94EC-5C676E58D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66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12392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иболее общая трактовка понятия ИС: «информационной системой называется комплекс, включающий вычислительное и коммуникационное оборудование, программное обеспечение, лингвистические средства и информационные ресурсы, а также системный персонал, обеспечивающий поддержку ди-намической информационной модели некоторой части реального мира для удовлетворения информационных потребностей пользова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761-A29B-43BE-9059-1AC299CF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/Intranet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br>
              <a:rPr sz="2900"/>
            </a:br>
            <a:br>
              <a:rPr sz="29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хитектура на основе Internet/Intranet с мигрирующими программам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B81-1B3E-4BEA-B7D7-1341CC135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56720" cy="5300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ределенная систе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это набор независимых вычислительных машин, представляющийся их пользователям единой объединенной систе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определении оговариваются два момента. Первый относится к аппаратуре: все машины автоном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касается программного обеспечения: пользователи думают, что имеют дело с единой системой. Важны оба момента. Позже в этой главе мы к ним вернемся, но сначала рассмотрим некоторые базовые вопросы, касающиеся как аппаратного, так и программного обеспе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E01-EC37-46B0-8ADE-D8AB90D6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распределенных систем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т пользователей скрыты различия между компьютерами и способы связи между ними. То же самое относится и к внешней организации распределенных сист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ользователи и приложения единообразно работают в распределенных системах, независимо от того, где и когда происходит их взаимодейств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ные системы должны легко поддаваться расширению, или масштабированию. Эта характеристика является прямым следствием наличия независимых компьютеров, но в то же время не указывает, каким образом эти компьютеры на самом деле объединяются в единую систе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73D-8F5E-4D03-BC2D-E9B2B024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156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поддержать представление системы в едином виде, организация распределенных систем включает в себя дополнительный уровень программного обеспечения, находящийся между верхним уровнем, на котором находятся пользователи и приложения, и нижним уровнем, состоящим из операционных систем. Пример организации распределенной системы в виде службы промежуточного уровня (см.Рис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D08D-59E1-42B4-88EF-57B6FF3AB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372960" y="4000680"/>
            <a:ext cx="8425080" cy="2857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5640" y="836640"/>
            <a:ext cx="8785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распределенных И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ы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ержки выполнения запро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ация/деактив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хра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ьное испол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а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сы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ылки на объекты в программных модулях на ОО языках программирования (например, С++) являются указателями в памя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0D8-0D76-4C1E-9124-47E250AEA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5640" y="691920"/>
            <a:ext cx="8785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сылки на объекты в распределенных системах в противоположность являются более комплексны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1.Содержат информацию о размеще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2.Информацию о безопас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4.Ссылки на объектные т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сылки на распределенные объекты значительно больше (40 байт для Orbix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ержки выполнения запро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кальные вызовы требуют порядка пары сотен наносекунд. Запрос к объекту требует от 0.1 до 10 миллисекунд. Интерфейсы в распределенной системе должны быть спроектированы так, чтобы снизить время выполнения запросов:  1. Снизить частоту обра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крупнить выполняемые фун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E6BE-0437-4936-B152-D961609A5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ация/Деактив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в ОО языках находятся в виртуальной памяти от создания до уничтож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ных система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Больше объек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ъекты могут не использоваться на протяжении долгог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ации распределенных объек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ереносятся в память при актив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даляются из памяти при деактив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3CC-35A1-4804-9FFF-E019E3785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ое хра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гут иметь или не иметь состоя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имеющие состояние должны сохранять его на постоянный носитель между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еактивацией объек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ктивацией объек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быть достигнут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Записью в файловую систе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тражением на реляционные Б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 помощью объектных Б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CC84-87DE-46E1-9706-C394DDCB1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ьное испол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распределенных системах исполнение в основном последовательное, иногда конкурентное в разных нитях проц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ные компоненты выполняются параллельно, что приводит к необходимости согласования выпол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а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ы в распределенных системах имеют большую вероятность отказ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енты обязаны проверять факт выполнения запросов серве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D69-BB10-4940-A4D2-887BC3A4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опас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в ОО приложениях может выполняться на основе контроля сеан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работе распределенных систем возникают вопросы безопасност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Кто запрашивает выполнение операц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ак мы можем удостовериться, что субъект является именно тем за кого он себя выдает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Как мы примем решение предоставлять или нет субъекту право на выполнение сервис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 мы можем неопровержимо доказать, что сервис был предоставлен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355-8F62-4FED-9709-A4F2C5074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льная машина — это комплекс технических и программных средств, предназначенный для автоматизации подготовки и решения задач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льная система это совокупность взаимосвязанных и взаимодействующих процессоров или вычислительных машин, периферийного оборудования и программного обеспечения, предназначенную для подготовки и решения задач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21E0-D368-4B15-B1EB-30CE9104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Бурдаков А.В. – Распределенные вычислительные системы. Лекция №1, слайд 3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узнецов – Архитектуры ИС. Слайд 12, 14, 20,21,22,23, 24, 25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офтСиб – Преимущества клиент-серверной перед файл-серверной технологией. http://www.soft-sib.ru/articles/programs/10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Танненбаум – Распределенные вычислительные системы. Глава 1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Бурдаков А.В. – Распределенные вычислительные системы. Лекция №3, слайд 3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4E2-AE87-4049-87FB-FF84AD957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E70-2B02-4C61-93E8-965FF433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совместно используют дорогие ресурсы ЭВМ и дорогие периферийные устройств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нтрализация ресурсов и оборудования облегчает обслуживание и эксплуатацию вычислительной систем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сутствует необходимость администрирования рабочих мест пользователе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лавный недостато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полностью зависят от администратора хост-ЭВ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1066680" y="819000"/>
            <a:ext cx="763272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spcBef>
                <a:spcPts val="649"/>
              </a:spcBef>
              <a:buClr>
                <a:srgbClr val="ff3300"/>
              </a:buClr>
              <a:buFont typeface="Wingdings" charset="2"/>
              <a:buChar char="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786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оновщик 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7" descr=""/>
          <p:cNvPicPr/>
          <p:nvPr/>
        </p:nvPicPr>
        <p:blipFill>
          <a:blip r:embed="rId1"/>
          <a:srcRect l="0" t="0" r="39605" b="0"/>
          <a:stretch/>
        </p:blipFill>
        <p:spPr>
          <a:xfrm>
            <a:off x="2857680" y="1143000"/>
            <a:ext cx="3214440" cy="2214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  <p:sp>
        <p:nvSpPr>
          <p:cNvPr id="481" name=""/>
          <p:cNvSpPr txBox="1"/>
          <p:nvPr/>
        </p:nvSpPr>
        <p:spPr>
          <a:xfrm>
            <a:off x="457200" y="34290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обрабатывать группу или композицию структур объектов одновременн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ешение заключается в определении классов для композитных и атомарных объектов таким образом, чтобы они реализовывали один и тот же интерфейс, а также имели ссылки на своих детей, и, возможно, на род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44B3-A869-4091-B847-3FEEB00B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архитектурой вычислительной машины обычно понимается логическое построение ВМ, то есть то, какой машина представляется программисту. Из рассмотрения выпадают вопросы физического построения вычислительных средств: состав устройств, число регистров процессора, емкость памяти, наличие специального блока для обработки вещественных чисел, тактовая частота центрального процессора и т.д. Этот круг вопросов принято определять понятием организация вычислительной маш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C0C3-B14E-4A59-9EC1-C8829DA5E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ровни детализации структуры вычислительной машин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 — уровень «черного ящика»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 — уровень общей архитектуры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— уровень архитектуры центрального процессора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 — уровень архитектуры устройства управлен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первом уровне вычислительная машина рассматривается как устройство, способное хранить и обрабатывать информацию, а также обмениваться данными с внешним миром. ВМ представляется «черным ящиком», который может быть подключен к коммуникационной сети и к которому, в свою очередь, могут подсоединяться периферийные устройств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CC4B-003C-4768-B11D-C651C05C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ровень общей архитектуры предполагает представление ВМ в виде четырех составляющих: центрального процессора (ЦП), основной памяти (ОП), устройства ввода/вывода (УВВ) и системы шин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третьем уровне детализируется каждое из устройств второго уровня. Для примера взят центральный процессор.  В простейшем варианте в нем можно выделить: арифметико-логическое устройство (АЛУ), обеспечивающее обработку целых чисел; блок обработки чисел в формате с плавающей запятой (БПЗ); регистры процессора, использующиеся для краткосрочного хранения команд, данных и адресов; устройство управления (УУ), обеспечивающее совместное функционирование устройств ВМ; внутренние шин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A31A-3ACC-47A1-ACD4-D43B9D0E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1</cp:lastModifiedBy>
  <dcterms:modified xsi:type="dcterms:W3CDTF">2013-01-24T16:06:02Z</dcterms:modified>
  <cp:revision>88</cp:revision>
  <dc:subject> Лекция 4. Архитектурные особенности проектирования и разработки Веб-приложений</dc:subject>
  <dc:title>Современные веб-технологии. Подробный курс</dc:title>
</cp:coreProperties>
</file>