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F96-4471-4EB4-9D7E-EF65A8ED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693-5D5F-4B79-8C05-A5DC0A2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18A-E5C4-4056-B89E-149E8222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DD5-27A6-4B1E-9619-A5DC79D4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0A2FF-8B1D-4D74-9878-E1FDB534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EAF29-BE76-4A1A-8035-3C8634E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8E45-7E0A-4D84-AEC8-199CDC01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12A7C-76A8-4521-A9BF-05F03988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F2A51-198A-49D0-A5C2-8EB503F3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55771-E383-4D70-9F13-3E92E15E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639F5-082D-44A8-9836-4D57155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548-6148-4666-8599-80C727F1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F7783-1661-4CE9-A8AA-431E9F4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8135B-6D32-4513-85AE-C6B8DD5A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BB909-257E-4264-8F5B-8DF3AC8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003EF-4581-4F41-A8BD-8BEEEAAD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92A94-23D7-4F87-B62C-034A9B96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D634-C1A9-4724-B21D-D423432C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97CA-E50B-40A7-BD32-DE388D4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C5D3-93B1-4410-91FF-C12B1E8C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4EC9-B165-4B5F-B4C5-53A88E67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75DB-A561-4553-844D-466BF44F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532-EDDA-4819-A6D2-118DC886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5175-0002-460A-B7E8-3086D33D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7ECE-29AF-4ABD-A12C-262987F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9987-A9A0-4062-9727-C2CD88A8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4D40-4A31-4EF4-AB63-DB1BB32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9122-6099-448E-B16C-7415CDD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B4A9-B04F-4274-84B8-093FD797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B0D4-19FD-4DA7-B2A4-442380AB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66BB-418D-4F6F-BE00-91E45FC5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95E7-8872-4EC9-98A5-9ADEF7B3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AB03-B272-4734-93DA-73B17D2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E70-9584-4E40-B844-B916DDE4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F1B5-3477-4600-9B4C-BB6C9C6E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D821-9652-4695-B9A4-2E0BF39E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4B97-D2DD-41B7-B08E-97D7D71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3596-D0B1-4184-8F43-096169C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8E1D-9E60-43D7-BBEA-28D6468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17B5-FE53-4284-8D4C-3440018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5049-3C49-430C-9A09-7ED155E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7F9E8-493C-47F4-B774-62DDBFEE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FFD3-ABEA-48A9-8DCB-87853D7D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CA1-F4B2-4E04-ACD3-D131ACE2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521-69C5-4074-9D3B-3B3AEDE6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566-FABA-4372-A38B-C5FCF2F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899-6226-47BB-9A90-F5701EE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113-C8E7-4E1D-A13A-442680E8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E08-025D-4276-8E8E-F8329CAB2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D627-8D03-4179-A96D-E37426BA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D4D8-B7F4-49AA-8245-7A1002A83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3606-E3E3-4C82-84CF-08172853C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D46-B29D-42A7-B1C2-D36517909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6E81-4700-4755-868B-47D1176C1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E23-6024-466D-BA64-7C41C7E8F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8A61-EA51-4904-BCD1-C2B3BF826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362b9"/>
                </a:solidFill>
                <a:latin typeface="Arial"/>
              </a:rPr>
              <a:t>Учебная дисципли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хитектура информационных систем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349000"/>
            <a:ext cx="82296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кция 1 (4 час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рхитектурный подх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 информационным система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743-0C60-4FED-B224-C5E97EA0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ух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73A9-74B4-4FB0-9D00-55FFBE521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можность распределить функции вычислительной системы между несколькими независимыми компьютера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се данные хранятся на защищенном сервер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многопользовательской работ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арантия целостности данны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работоспособность сервера может сделать неработоспособной всю вычислительную сет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ложное администрирова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сокая стоимость оборуд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изнес логика приложений осталась в клиентском П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2740-A68B-4293-A9E4-F56E55B71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928800" y="1357200"/>
          <a:ext cx="700092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357200"/>
                    <a:ext cx="700092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69F3-4921-4A9E-A5C6-3158DAAC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иентское ПО не нуждается в администрирова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сштабируем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фигурируем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окая безопасность и надеж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изкие требования к скорости канала между терминалами и сервером при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изкие требования к производительности и техническим характеристикам термина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администрирования и обслужи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олее высокая сложность создания при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окие требования к производительности серверов приложений и сервера базы данн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окие требования к скорости канала (сети) между сервером базы данных и серверами при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хитектура распределенных систе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41B-B74B-4F03-89E9-BD28F7016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2071800" y="1571760"/>
          <a:ext cx="457200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571760"/>
                    <a:ext cx="457200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 Веб-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167B-B6C4-4E7E-B669-7BC46E46E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3"/>
          <p:cNvGraphicFramePr/>
          <p:nvPr/>
        </p:nvGraphicFramePr>
        <p:xfrm>
          <a:off x="1285920" y="1214280"/>
          <a:ext cx="6451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14280"/>
                    <a:ext cx="6451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 Веб-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A407-E41F-4B86-BBCD-C786913F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необходимости использовать дополнительное ПО на стороне клиен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практически неограниченного количества кли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трализованное место хранения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упность при отсутствии работоспособности сервера или каналов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аточно низкая скорость Веб-сервера и каналов передачи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рвис-ориентированная архитекту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85DC-6E74-49F8-A221-BB490F5A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ервис-ориентированная архитектура (SOA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модульный подход к разработке программного обеспечения, основанный на использовании сервисов со стандартизированными интерфейса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нципы SO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рхитектура не привязана к какой-то определенной технолог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зависимость организации системы от используемой вычислительной платфор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зависимость организации системы от применяемых языков программ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ние сервисов, независимых от конкретных приложений, с единообразными интерфейсами доступа к ни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рганизация сервисов как слабосвязанных компонентов для построения систе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лек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2828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Общая характери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исципли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Основные понятия и опреде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Характеристика информационной системы как объекта архитекту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98B7-5C83-416A-972D-0821DC6B8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щая характеристика дисципл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сциплина читается в 3 и 4 семестр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семестр: 18 ч. лекций и 36 ч. лаборатор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ч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семестр: 16 ч. лекций и 34 ч. лаборатор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зам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4DEA-AE58-49A9-BB61-98AA7F07A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260280"/>
            <a:ext cx="7470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Основные понятия и определ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рхитектура –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это набор значимых решений по поводу организации системы программного обеспечения, набор структурных элементов и их интерфейсов, при помощи которых компонуется система, вместе с их поведением, определяемым во взаимодействии между этими элементами, компоновка элементов в постепенно укрупняющиеся подсистемы, а также стиль архитектуры, который направляет эту организацию – элементы и их интерфейсы, взаимодействия и компоновк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F387-3D5C-4689-BC8D-25C988C3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изованная архитек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003-8807-4A8D-B1EE-123298026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5"/>
          <p:cNvGraphicFramePr/>
          <p:nvPr/>
        </p:nvGraphicFramePr>
        <p:xfrm>
          <a:off x="2071800" y="1428840"/>
          <a:ext cx="435744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435744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изованная архитек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C88-DA5C-4BEE-8154-0B1DB856F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совместно используют дорогие ресурсы ЭВМ и дорогие периферийные устройств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нтрализация ресурсов и оборудования облегчает обслуживание и эксплуатацию вычислительной систем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тсутствует необходимость администрирования рабочих мест пользователе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лавный недостато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полностью зависят от администратора хост-ЭВ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рхитектура «файл-сервер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9D2-C864-410A-8124-76992C9A4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428920" y="1428840"/>
          <a:ext cx="378612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28840"/>
                    <a:ext cx="378612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рхитектура «файл-сервер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1035-3628-428B-9F10-AD02F1A3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ногопользовательский режим работы с данны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добство централизованного управления доступо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изкая стоимость разработ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сокая скорость разработ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высокая стоимость обновления и изменения П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блемы многопользовательской работы с данны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изкая производительност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лохая возможность подключения новых клиент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надежность систе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ух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F63-907F-4CF6-9BB2-BB13A91E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1857240" y="1357200"/>
          <a:ext cx="47865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357200"/>
                    <a:ext cx="4786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1</cp:lastModifiedBy>
  <dcterms:modified xsi:type="dcterms:W3CDTF">2012-09-18T17:48:56Z</dcterms:modified>
  <cp:revision>31</cp:revision>
  <dc:subject> Лекция 4. Архитектурные особенности проектирования и разработки Веб-приложений</dc:subject>
  <dc:title>Современные веб-технологии. Подробный курс</dc:title>
</cp:coreProperties>
</file>